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748-5DAE-4634-8D6D-A130024D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AD8-6016-4FBC-9D43-4561160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23F-4A9B-4C58-AAC1-694B7966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E06-8544-481C-A5E5-59111019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B38-7377-41F7-A562-C01BC4E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F74-1279-43D5-80F6-D6B94338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5B9-966B-430A-83DB-8F773870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312-5457-4B01-B24B-89FE065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B22-C903-4FB5-BD23-6E2822AF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BBB-3A78-4A85-841D-5CB5317C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BA3-9523-4E82-A0D1-69E6F16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4BB-95A5-4F38-9ABB-C9E626F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B1C-1315-4F68-9C81-DF59CF70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การทำงานของคอมพิวเตอร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</a:rPr>
              <a:t>การทำงานของคอมพิวเตอร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144792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การทำงานของคอมพิวเตอร์ โดยหลักการแล้วจะมีขั้นตอนการทำงานอยู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ใหญ่ๆ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ับข้อมูลเข้า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ประมวลผลข้อมูล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แสดงผลข้อมูล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6705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90560" y="304560"/>
            <a:ext cx="617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ับข้อมูลเข้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Input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ริ่มด้วยการนำข้อมูลเข้าเครื่องคอมพิวเตอร์ ผ่านทางอุปกรณ์ 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Input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ชนิดต่างๆ เช่น ถ้าเป็นการพิมพ์ข้อมูลจะใช้คีย์บอร์ด เพื่อพิมพ์ข้อความหรือโปรแกรมเข้าเครื่อง ถ้าเป็นการเขียนภาพจะใช้เครื่องอ่านพิกัดภาพกราฟิค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Graphics Tablet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โดยมีปากกาชนิดพิเศษสำหรับเขียนภาพ หรือ ใช้เครื่องสแกนเนอร์ สแกนข้อมูลเข้าไป เป็นต้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42840" y="533520"/>
            <a:ext cx="6095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ระมวลผลข้อมูล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Process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    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มื่อนำข้อมูลเข้ามาแล้ว เครื่องจะดำเนินการประมวลผลกับข้อมูลตามคำสั่งที่ได้รับมาเพื่อให้ได้ผลลัพธ์ตามที่ต้องการ โดยการประมวลผลอาจจะมีได้หลายลักษณะ เช่น นำข้อมูลมาหาผลรวม นำข้อมูลมาจัดกลุ่ม นำข้อมูลมาหาค่ามากที่สุด หรือน้อยที่สุด เป็นต้น และในส่วนของการประมวลผลจะทำการร่วมกันกับหน่วยความจำอีกด้วย ทั้งนี้ก็ขึ้นอยู่กับลักษณะของการประมวลผล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14240" y="762120"/>
            <a:ext cx="6172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แสดงผลข้อมูล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เป็นการนำผลลัพธ์จากการประมวลผลมาแสดงผ่านทางอุปกรณ์แสดงผลที่กำหนดไว้ ซึ่งโดยทั่วไปแล้วจะแสดงผ่านทางจอภาพ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และยังสามารถแสดงผลด้วยการพิมพ์ข้อมูลออกทางกระดาษโดยใช้เครื่องพิมพ์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ก็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6:58:39Z</dcterms:created>
  <dc:creator>D9</dc:creator>
  <dc:description/>
  <dc:language>en-US</dc:language>
  <cp:lastModifiedBy>D9</cp:lastModifiedBy>
  <dcterms:modified xsi:type="dcterms:W3CDTF">2010-01-18T07:25:36Z</dcterms:modified>
  <cp:revision>3</cp:revision>
  <dc:subject/>
  <dc:title>คอมพิวเตอร์คืออะไร ?</dc:title>
</cp:coreProperties>
</file>