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B70-F8E3-4B4E-8C84-847D7156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DD4-FCF0-4FC2-B0AE-BD72EC4E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D4F-414E-4A6C-8946-AE2B9B40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B19-46CB-4BB3-ACC4-7A88BF50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204-2177-4415-9CA0-078F7EFA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008-2297-4268-BB4E-7CBA1650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E24-5778-4EFF-8D51-83CA5CCC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9A2-F7DB-4366-A715-17375BE1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EF5-C331-4397-9A7C-6B886FBC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660-DA90-4653-A05A-F8360AB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BA1-CBE1-408F-BFCF-737E6554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964-B247-473C-8F21-35A0654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9FCB-44FB-4A4D-B906-2F306DFA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rial"/>
              </a:rPr>
              <a:t>คอมพิวเตอร์คืออะไร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th-TH" sz="4400" spc="-1" strike="noStrike" u="sng">
                <a:solidFill>
                  <a:srgbClr val="ffffff"/>
                </a:solidFill>
                <a:uFillTx/>
                <a:latin typeface="Arial"/>
              </a:rPr>
              <a:t>ความหมา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rial"/>
              </a:rPr>
              <a:t>ความหมาย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ปัจจุบันจะพบว่าคอมพิวเตอร์มีหลากหลายลักษณะหลากหลายรูปแบบ ทั้งคอมพิวเตอร์ขนาดพกพา คอมพิวเตอร์แบบตั้งโต๊ะ คอมพิวเตอร์แบบกระเป๋าหิ้ว คอมพิวเตอร์ขนาดใหญ่ เช่น คอมพิวเตอร์เมนเฟรมหรือซุปเปอร์คอมพิวเตอร์ แต่ไม่ว่าจะเป็นรูปแบบใดก็ตาม คอมพิวเตอร์ก็มีความหมายที่ชัดเจนในตัวของมันเอ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24000" y="404280"/>
            <a:ext cx="66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คือ เครื่องคำนวณ ในรูปของอุปกรณ์อิเล็กทรอนิกส์ ที่สามารถรับข้อมูลและคำสั่ง ผ่านอุปกรณ์รับข้อมูล แล้วนำข้อมูลและคำสั่งนั้น ไปประมวลผลด้วยหน่วยประมวลผลเพื่อให้ได้ผลลัพธ์ที่ต้องการ และแสดงผลผ่านอุปกรณ์แสดงผล ตลอดจนสามารถบันทึกรายการต่างๆ ไว้เพื่อใช้งานได้ด้วยอุปกรณ์บันทึกข้อมูลสำรอ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rial"/>
              </a:rPr>
              <a:t>เหตุผลที่นำคอมพิวเตอร์มาใช้งาน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มารถบันทึกข้อมูลต่างๆ ได้รวดเร็ว เช่น การใช้เครื่องอ่านรหัสแท่ง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่านเวลาเข้า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อก ของพนักงาน และคิดราคาสินค้า ในห้างสรรพสินค้า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มารถเก็บข้อมูลจำนวนมากๆ ไว้ในฐานข้อมูล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พื่อใช้งานได้ทันท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มารถนำข้อมูลที่เก็บไว้มาคำนวณทางสถิติ แยกประเภท จัดกลุ่ม ทำรายงานลักษณะต่างๆ ได้ โดยระบบประมวลผลข้อมูล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rocessing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4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มารถส่งข้อมูลจากที่หนึ่ง ไปยังอีกที่หนึ่งได้อย่างรวดเร็ว โดยอาศัยเทคโนโลยีสื่อสารข้อมูล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mmunication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340000" y="476280"/>
            <a:ext cx="634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ามารถจัดทำเอกสารต่างๆ ได้อย่างรวดเร็ว ด้วยระบบประมวลผลคำ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ซึ่งเป็นส่วนหนึ่งของ ระบบสำนักงานอัตโนมัติ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Automation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6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นำมาใช้งานทั้งด้านการศึกษา การวิจัย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งานธุรกิจ งานการเงิน ธนาคาร และงานของภาครัฐต่างๆ เช่น การนำคอมพิวเตอร์มาใช้กับงานบัญชี งานบริหารสำนักงาน งานเอกสาร งานการเงิน การจองตั๋วเครื่องบิน รถไฟ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ควบคุมระบบอัตโนมัติต่างๆ เช่น ระบบจราจ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ะบบเปิด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ิดน้ำของเขื่อ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40000" y="549000"/>
            <a:ext cx="6346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เพื่องานวิเคราะห์ต่างๆ เช่น การวิเคราะห์สภาวะดินฟ้าอากาศ สภาพของดิน น้ำ เพื่อการเกษตร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คอมพิวเตอร์เพื่อจำลองรูปแบบ เช่น การจำลองในงานวิทยาศาสตร์ จำลองโมเลกุล จำลองรูปแบบการฝึกขับเครื่องบิน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คอมพิวเตอร์นันทนาการ เช่นการเล่นเกม การดูหนัง ฟังเพล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ใช้คอมพิวเตอร์ร่วมกับเทคโนโลยีล้ำสมัยอี่นๆ เทคโนโลยีสื่อสารข้อมูล เกิดเครือข่ายอินเทอร์เน็ต เป็นต้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4:08:34Z</dcterms:created>
  <dc:creator>WincoolV5</dc:creator>
  <dc:description/>
  <dc:language>en-US</dc:language>
  <cp:lastModifiedBy>D9</cp:lastModifiedBy>
  <dcterms:modified xsi:type="dcterms:W3CDTF">2010-01-18T06:33:32Z</dcterms:modified>
  <cp:revision>5</cp:revision>
  <dc:subject/>
  <dc:title>คอมพิวเตอร์คืออะไร ??</dc:title>
</cp:coreProperties>
</file>