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A32-5741-4312-A716-AEE485DD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B111-FADB-4A5C-BA56-6140A382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C00-9DD6-466D-88AE-AC1D6594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2D6-7265-4DB2-93A1-F0DE29E1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2CC-0285-47ED-8D78-2098A386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4A4-2678-4766-9CAA-F14C2707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DD1-3268-490C-98FB-F03CBD34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BCD-26B1-4146-877B-0668A100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FC9-0F84-4BD9-9E99-B09B3A45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605-4E94-475D-AC73-C7D8B405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483-81D8-4B77-9E28-A59FBFA4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52B-7B54-458A-9128-DD2FCDD3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263A-A19D-4DD7-A83A-08A7B472B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rial"/>
              </a:rPr>
              <a:t>คอมพิวเตอร์คืออะไร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16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th-TH" sz="4400" spc="-1" strike="noStrike" u="sng">
                <a:solidFill>
                  <a:srgbClr val="ffffff"/>
                </a:solidFill>
                <a:uFillTx/>
                <a:latin typeface="Arial"/>
              </a:rPr>
              <a:t>ความหมา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rial"/>
              </a:rPr>
              <a:t>ความหมาย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ปัจจุบันจะพบว่าคอมพิวเตอร์มีหลากหลายลักษณะหลากหลายรูปแบบ ทั้งคอมพิวเตอร์ขนาดพกพา คอมพิวเตอร์แบบตั้งโต๊ะ คอมพิวเตอร์แบบกระเป๋าหิ้ว คอมพิวเตอร์ขนาดใหญ่ เช่น คอมพิวเตอร์เมนเฟรมหรือซุปเปอร์คอมพิวเตอร์ แต่ไม่ว่าจะเป็นรูปแบบใดก็ตาม คอมพิวเตอร์ก็มีความหมายที่ชัดเจนในตัวของมันเอ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124000" y="404280"/>
            <a:ext cx="662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คือ เครื่องคำนวณ ในรูปของอุปกรณ์อิเล็กทรอนิกส์ ที่สามารถรับข้อมูลและคำสั่ง ผ่านอุปกรณ์รับข้อมูล แล้วนำข้อมูลและคำสั่งนั้น ไปประมวลผลด้วยหน่วยประมวลผลเพื่อให้ได้ผลลัพธ์ที่ต้องการ และแสดงผลผ่านอุปกรณ์แสดงผล ตลอดจนสามารถบันทึกรายการต่างๆ ไว้เพื่อใช้งานได้ด้วยอุปกรณ์บันทึกข้อมูลสำรอ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rial"/>
              </a:rPr>
              <a:t>เหตุผลที่นำคอมพิวเตอร์มาใช้งาน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ามารถบันทึกข้อมูลต่างๆ ได้รวดเร็ว เช่น การใช้เครื่องอ่านรหัสแท่ง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่านเวลาเข้า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อก ของพนักงาน และคิดราคาสินค้า ในห้างสรรพสินค้า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ามารถเก็บข้อมูลจำนวนมากๆ ไว้ในฐานข้อมูล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เพื่อใช้งานได้ทันท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ามารถนำข้อมูลที่เก็บไว้มาคำนวณทางสถิติ แยกประเภท จัดกลุ่ม ทำรายงานลักษณะต่างๆ ได้ โดยระบบประมวลผลข้อมูล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Processing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4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ามารถส่งข้อมูลจากที่หนึ่ง ไปยังอีกที่หนึ่งได้อย่างรวดเร็ว โดยอาศัยเทคโนโลยีสื่อสารข้อมูล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ommunication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340000" y="476280"/>
            <a:ext cx="634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ามารถจัดทำเอกสารต่างๆ ได้อย่างรวดเร็ว ด้วยระบบประมวลผลคำ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Processing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ซึ่งเป็นส่วนหนึ่งของ ระบบสำนักงานอัตโนมัติ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Automation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   6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ารนำมาใช้งานทั้งด้านการศึกษา การวิจัย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ารใช้งานธุรกิจ งานการเงิน ธนาคาร และงานของภาครัฐต่างๆ เช่น การนำคอมพิวเตอร์มาใช้กับงานบัญชี งานบริหารสำนักงาน งานเอกสาร งานการเงิน การจองตั๋วเครื่องบิน รถไฟ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ารควบคุมระบบอัตโนมัติต่างๆ เช่น ระบบจราจ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ระบบเปิด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ปิดน้ำของเขื่อ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340000" y="549000"/>
            <a:ext cx="63468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ารใช้เพื่องานวิเคราะห์ต่างๆ เช่น การวิเคราะห์สภาวะดินฟ้าอากาศ สภาพของดิน น้ำ เพื่อการเกษตร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ารใช้คอมพิวเตอร์เพื่อจำลองรูปแบบ เช่น การจำลองในงานวิทยาศาสตร์ จำลองโมเลกุล จำลองรูปแบบการฝึกขับเครื่องบิน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ารใช้คอมพิวเตอร์นันทนาการ เช่นการเล่นเกม การดูหนัง ฟังเพลง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ารใช้คอมพิวเตอร์ร่วมกับเทคโนโลยีล้ำสมัยอี่นๆ เทคโนโลยีสื่อสารข้อมูล เกิดเครือข่ายอินเทอร์เน็ต เป็นต้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4:08:34Z</dcterms:created>
  <dc:creator>WincoolV5</dc:creator>
  <dc:description/>
  <dc:language>en-US</dc:language>
  <cp:lastModifiedBy>D9</cp:lastModifiedBy>
  <dcterms:modified xsi:type="dcterms:W3CDTF">2010-01-18T06:33:32Z</dcterms:modified>
  <cp:revision>5</cp:revision>
  <dc:subject/>
  <dc:title>คอมพิวเตอร์คืออะไร ??</dc:title>
</cp:coreProperties>
</file>