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130-5AB8-4439-B5FB-B8CC867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CF6-DC26-4299-A013-88AA7F16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472-DB75-4D2E-8B8D-DBF0F5B2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6AC-11B2-4406-9370-0E61BED9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295-3C89-415F-8327-B4D08E9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3B1-2B76-4451-8B7C-130FC005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C06-3F3A-48AC-8570-F81CFF5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573-C682-4CB3-95D0-33A4825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631-8FE9-44DB-B18C-76074CB3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4F1-0E1C-44F4-AF0C-290AA28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CE2-5AAA-4F22-A7A2-9B96894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E65-7F62-42E1-A54E-C6220B7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58B-3A17-4A23-A529-8FAB9C75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ลักษณะเด่นของคอมพิวเตอร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rial"/>
              </a:rPr>
              <a:t>ลักษณะเด่นของคอมพิวเตอร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เครื่องคอมพิวเตอร์ถูกสร้างขึ้นมาเพื่อให้มีจุดเด่น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ประการ เพื่อทดแทนข้อจำกัดของมนุษย์ เรียกว่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 special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ดังนี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95120" y="609480"/>
            <a:ext cx="5791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หน่วยเก็บ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เก็บข้อมูลจำนวนมากและเป็นเวลานาน นับเป็นจุดเด่นทางโครงสร้าง และเป็นหัวใจของการทำงานแบบอัตโนมัติของเครื่องคอมพิวเตอร์ ทั้งเป็นตัวบ่งชี้ประสิทธิภาพของคอมพิวเตอร์แต่ละเครื่องด้ว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19520" y="685800"/>
            <a:ext cx="5867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เร็ว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ข้อมูล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ing Speed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โดยใช้เวลาน้อย เป็นจุดเด่นทาง โครงสร้างที่ผู้ใช้ทั่วไปมีส่วนเกี่ยวข้องน้อยที่สุด เป็นตัวบ่งชี้ประสิทธิภาพ ของเครื่องคอมพิวเตอร์ที่สำคัญส่วนหนึ่งเช่นกั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71440" y="685800"/>
            <a:ext cx="5715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เป็นอัตโนมัติ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 Actin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ข้อมูลตามลำดับขั้นตอนได้อย่างถูกต้องและต่อเนื่องอย่างอัตโนมัติ โดยมนุษย์มีส่วนเกี่ยวข้องเฉพาะในขั้นตอนการกำหนดโปรแกรมคำสั่งและข้อมูลก่อนการประมวลผลเท่านั้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57913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ความน่าเชื่อถือ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มายถึง ความสามารถในการประมวลผลให้เกิดผลลัพธ์ที่ถูกต้อง ความน่าเชื่อถือนับเป็นสิ่งสำคัญ ที่สุดในการทำงาน ของเครื่องคอมพิวเตอร์ ความสามารถนี้เกี่ยวข้อง กับโปรแกรมคำสั่งและข้อมูล ที่มนุษย์กำหนด ให้กับเครื่องคอมพิวเตอร์โดยตรง กล่าวคือ หากมนุษย์ป้อนข้อมูล ที่ไม่ถูกต้องให้กับ เครื่องคอมพิวเตอร์ก็ย่อม ได้ผลลัพธ์ที่ไม่ถูกต้องด้วยเช่นกั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7:33:26Z</dcterms:created>
  <dc:creator>D9</dc:creator>
  <dc:description/>
  <dc:language>en-US</dc:language>
  <cp:lastModifiedBy>D9</cp:lastModifiedBy>
  <dcterms:modified xsi:type="dcterms:W3CDTF">2010-01-18T07:38:31Z</dcterms:modified>
  <cp:revision>3</cp:revision>
  <dc:subject/>
  <dc:title>คอมพิวเตอร์คืออะไร ?</dc:title>
</cp:coreProperties>
</file>