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5F8F-5686-48FF-970F-94FB8D4E0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67D8-643B-4D96-A3A2-321787807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B902-6AEC-426D-9BBF-71D3055FD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1B33-769E-4E8A-AC3B-206402FA1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06D3-1E7E-4E90-ADC8-2EB41F8B4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801E-23F7-4EE0-8037-8C66BA36B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1408-5FA4-4D1D-93B9-A86210CD2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DF24-0200-4CCA-AE2C-564AB0B4E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DB9C-86D9-453A-B5CF-3DCEFB8A6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571C-0831-4639-8256-310FE3B5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6A71-01A3-4502-9BF9-EF73617EB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C02D-913E-4241-800D-FA81F7460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91ABA-4A73-4783-BD21-06AA294F4D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600" spc="-1" strike="noStrike">
                <a:solidFill>
                  <a:srgbClr val="ffffff"/>
                </a:solidFill>
                <a:latin typeface="Arial"/>
              </a:rPr>
              <a:t>คอมพิวเตอร์คืออะไร 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3372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1" lang="th-TH" sz="4000" spc="-1" strike="noStrike">
                <a:solidFill>
                  <a:srgbClr val="ffffff"/>
                </a:solidFill>
                <a:latin typeface="Arial"/>
              </a:rPr>
              <a:t>ลักษณะเด่นของคอมพิวเตอร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ffffff"/>
                </a:solidFill>
                <a:latin typeface="Arial"/>
              </a:rPr>
              <a:t>ลักษณะเด่นของคอมพิวเตอร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2590920"/>
            <a:ext cx="807696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th-TH" sz="4000" spc="-1" strike="noStrike">
                <a:solidFill>
                  <a:srgbClr val="000000"/>
                </a:solidFill>
                <a:latin typeface="Arial"/>
              </a:rPr>
              <a:t>เครื่องคอมพิวเตอร์ถูกสร้างขึ้นมาเพื่อให้มีจุดเด่น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th-TH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h-TH" sz="4000" spc="-1" strike="noStrike">
                <a:solidFill>
                  <a:srgbClr val="000000"/>
                </a:solidFill>
                <a:latin typeface="Arial"/>
              </a:rPr>
              <a:t>ประการ เพื่อทดแทนข้อจำกัดของมนุษย์ เรียกว่า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S special </a:t>
            </a:r>
            <a:r>
              <a:rPr b="1" lang="th-TH" sz="4000" spc="-1" strike="noStrike">
                <a:solidFill>
                  <a:srgbClr val="000000"/>
                </a:solidFill>
                <a:latin typeface="Arial"/>
              </a:rPr>
              <a:t>ดังนี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895120" y="609480"/>
            <a:ext cx="57913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th-TH" sz="4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Arial"/>
              </a:rPr>
              <a:t>หน่วยเก็บ </a:t>
            </a:r>
            <a:r>
              <a:rPr b="1" lang="th-TH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orage</a:t>
            </a:r>
            <a:r>
              <a:rPr b="1" lang="th-TH" sz="4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4000"/>
            </a:br>
            <a:r>
              <a:rPr b="0" lang="th-TH" sz="4000" spc="-1" strike="noStrike">
                <a:solidFill>
                  <a:srgbClr val="000000"/>
                </a:solidFill>
                <a:latin typeface="Arial"/>
              </a:rPr>
              <a:t>       </a:t>
            </a:r>
            <a:r>
              <a:rPr b="0" lang="th-TH" sz="4000" spc="-1" strike="noStrike">
                <a:solidFill>
                  <a:srgbClr val="000000"/>
                </a:solidFill>
                <a:latin typeface="Arial"/>
              </a:rPr>
              <a:t>หมายถึง ความสามารถในการเก็บข้อมูลจำนวนมากและเป็นเวลานาน นับเป็นจุดเด่นทางโครงสร้าง และเป็นหัวใจของการทำงานแบบอัตโนมัติของเครื่องคอมพิวเตอร์ ทั้งเป็นตัวบ่งชี้ประสิทธิภาพของคอมพิวเตอร์แต่ละเครื่องด้ว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819520" y="685800"/>
            <a:ext cx="586728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th-TH" sz="4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Arial"/>
              </a:rPr>
              <a:t>ความเร็ว </a:t>
            </a:r>
            <a:r>
              <a:rPr b="1" lang="th-TH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1" lang="th-TH" sz="4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4000"/>
            </a:br>
            <a:r>
              <a:rPr b="0" lang="th-TH" sz="4000" spc="-1" strike="noStrike">
                <a:solidFill>
                  <a:srgbClr val="000000"/>
                </a:solidFill>
                <a:latin typeface="Arial"/>
              </a:rPr>
              <a:t>         </a:t>
            </a:r>
            <a:r>
              <a:rPr b="0" lang="th-TH" sz="4000" spc="-1" strike="noStrike">
                <a:solidFill>
                  <a:srgbClr val="000000"/>
                </a:solidFill>
                <a:latin typeface="Arial"/>
              </a:rPr>
              <a:t>หมายถึง ความสามารถในการประมวลผลข้อมูล </a:t>
            </a:r>
            <a:r>
              <a:rPr b="0" lang="th-TH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cessing Speed</a:t>
            </a:r>
            <a:r>
              <a:rPr b="0" lang="th-TH" sz="4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th-TH" sz="4000" spc="-1" strike="noStrike">
                <a:solidFill>
                  <a:srgbClr val="000000"/>
                </a:solidFill>
                <a:latin typeface="Arial"/>
              </a:rPr>
              <a:t>โดยใช้เวลาน้อย เป็นจุดเด่นทาง โครงสร้างที่ผู้ใช้ทั่วไปมีส่วนเกี่ยวข้องน้อยที่สุด เป็นตัวบ่งชี้ประสิทธิภาพ ของเครื่องคอมพิวเตอร์ที่สำคัญส่วนหนึ่งเช่นกั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971440" y="685800"/>
            <a:ext cx="57150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th-TH" sz="4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Arial"/>
              </a:rPr>
              <a:t>ความเป็นอัตโนมัติ 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lf Acting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4000"/>
            </a:br>
            <a:r>
              <a:rPr b="0" lang="th-TH" sz="4000" spc="-1" strike="noStrike">
                <a:solidFill>
                  <a:srgbClr val="000000"/>
                </a:solidFill>
                <a:latin typeface="Arial"/>
              </a:rPr>
              <a:t>         </a:t>
            </a:r>
            <a:r>
              <a:rPr b="0" lang="th-TH" sz="4000" spc="-1" strike="noStrike">
                <a:solidFill>
                  <a:srgbClr val="000000"/>
                </a:solidFill>
                <a:latin typeface="Arial"/>
              </a:rPr>
              <a:t>หมายถึง ความสามารถในการประมวลผลข้อมูลตามลำดับขั้นตอนได้อย่างถูกต้องและต่อเนื่องอย่างอัตโนมัติ โดยมนุษย์มีส่วนเกี่ยวข้องเฉพาะในขั้นตอนการกำหนดโปรแกรมคำสั่งและข้อมูลก่อนการประมวลผลเท่านั้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895120" y="685800"/>
            <a:ext cx="579132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ความน่าเชื่อถือ 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re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3200"/>
            </a:b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        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หมายถึง ความสามารถในการประมวลผลให้เกิดผลลัพธ์ที่ถูกต้อง ความน่าเชื่อถือนับเป็นสิ่งสำคัญ ที่สุดในการทำงาน ของเครื่องคอมพิวเตอร์ ความสามารถนี้เกี่ยวข้อง กับโปรแกรมคำสั่งและข้อมูล ที่มนุษย์กำหนด ให้กับเครื่องคอมพิวเตอร์โดยตรง กล่าวคือ หากมนุษย์ป้อนข้อมูล ที่ไม่ถูกต้องให้กับ เครื่องคอมพิวเตอร์ก็ย่อม ได้ผลลัพธ์ที่ไม่ถูกต้องด้วยเช่นกั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07:33:26Z</dcterms:created>
  <dc:creator>D9</dc:creator>
  <dc:description/>
  <dc:language>en-US</dc:language>
  <cp:lastModifiedBy>D9</cp:lastModifiedBy>
  <dcterms:modified xsi:type="dcterms:W3CDTF">2010-01-18T07:38:31Z</dcterms:modified>
  <cp:revision>3</cp:revision>
  <dc:subject/>
  <dc:title>คอมพิวเตอร์คืออะไร ?</dc:title>
</cp:coreProperties>
</file>