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E30-B09F-400C-B3E7-926D192D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C7E-CC8F-4D4B-A16D-03A9B850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B80-9C1C-497F-AB7D-5C03FFEB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5E5-84F0-4EBB-B362-C2406997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B9C-07CF-4917-9F1C-A91C7D0E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FCC-28D6-4418-9FEC-7103BB6B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A19-F47B-47DE-9CB3-4EA0F81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156-B9BE-4CE6-BC65-7DB510C7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45F-F199-4AB7-A8A4-616E19B7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F77-2F72-42B5-86AE-063475E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E5A-DB21-49C9-B908-44856E21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273-AE92-4F9D-A80B-12B5A51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10B8-3A77-4DAC-9F70-9E0677AE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rial"/>
              </a:rPr>
              <a:t>คอมพิวเตอร์คืออะไร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th-TH" sz="5400" spc="-1" strike="noStrike">
                <a:solidFill>
                  <a:srgbClr val="ffffff"/>
                </a:solidFill>
                <a:latin typeface="Arial"/>
              </a:rPr>
              <a:t>การทำงานของคอมพิวเตอร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</a:rPr>
              <a:t>การทำงานของคอมพิวเตอร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144792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การทำงานของคอมพิวเตอร์ โดยหลักการแล้วจะมีขั้นตอนการทำงานอยู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ใหญ่ๆ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ับข้อมูลเข้า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ประมวลผลข้อมูล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แสดงผลข้อมูล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67057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90560" y="304560"/>
            <a:ext cx="617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ั้นตอน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: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ับข้อมูลเข้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Input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เริ่มด้วยการนำข้อมูลเข้าเครื่องคอมพิวเตอร์ ผ่านทางอุปกรณ์ 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Input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ชนิดต่างๆ เช่น ถ้าเป็นการพิมพ์ข้อมูลจะใช้คีย์บอร์ด เพื่อพิมพ์ข้อความหรือโปรแกรมเข้าเครื่อง ถ้าเป็นการเขียนภาพจะใช้เครื่องอ่านพิกัดภาพกราฟิค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Graphics Tablet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โดยมีปากกาชนิดพิเศษสำหรับเขียนภาพ หรือ ใช้เครื่องสแกนเนอร์ สแกนข้อมูลเข้าไป เป็นต้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42840" y="533520"/>
            <a:ext cx="6095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ั้นตอน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: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ระมวลผลข้อมูล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Process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    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เมื่อนำข้อมูลเข้ามาแล้ว เครื่องจะดำเนินการประมวลผลกับข้อมูลตามคำสั่งที่ได้รับมาเพื่อให้ได้ผลลัพธ์ตามที่ต้องการ โดยการประมวลผลอาจจะมีได้หลายลักษณะ เช่น นำข้อมูลมาหาผลรวม นำข้อมูลมาจัดกลุ่ม นำข้อมูลมาหาค่ามากที่สุด หรือน้อยที่สุด เป็นต้น และในส่วนของการประมวลผลจะทำการร่วมกันกับหน่วยความจำอีกด้วย ทั้งนี้ก็ขึ้นอยู่กับลักษณะของการประมวลผล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14240" y="762120"/>
            <a:ext cx="6172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ขั้นตอนที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แสดงผลข้อมูล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เป็นการนำผลลัพธ์จากการประมวลผลมาแสดงผ่านทางอุปกรณ์แสดงผลที่กำหนดไว้ ซึ่งโดยทั่วไปแล้วจะแสดงผ่านทางจอภาพ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และยังสามารถแสดงผลด้วยการพิมพ์ข้อมูลออกทางกระดาษโดยใช้เครื่องพิมพ์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ก็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6:58:39Z</dcterms:created>
  <dc:creator>D9</dc:creator>
  <dc:description/>
  <dc:language>en-US</dc:language>
  <cp:lastModifiedBy>D9</cp:lastModifiedBy>
  <dcterms:modified xsi:type="dcterms:W3CDTF">2010-01-18T07:25:36Z</dcterms:modified>
  <cp:revision>3</cp:revision>
  <dc:subject/>
  <dc:title>คอมพิวเตอร์คืออะไร ?</dc:title>
</cp:coreProperties>
</file>